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BC86-7979-4822-8414-B863BD64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76E2-05FC-452D-9CB8-168737ED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39EA-5B6D-48FB-830E-E462BA8D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FB8E-69B7-4655-A6C2-B3D1E1BD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0F41-7960-4131-88B1-C9327232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B370-DD1E-4661-8D4D-49419BB5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F47F-05DA-4900-B0D5-802A1DD5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9B9F-9E01-4C2C-A476-503E7F28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9082-DD3F-4087-B7B0-4E94872A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AABB-0FE0-47C6-91D8-3EC8EE77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A71E-6011-4CB8-927E-FAF6677A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5EFE-334D-4314-9247-15D89F02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0F75-B505-4786-9AD6-DCA53B38832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sfcr.cz/file/8258/" TargetMode="External"/><Relationship Id="rId2" Type="http://schemas.openxmlformats.org/officeDocument/2006/relationships/hyperlink" Target="https://forum.esfcr.cz/node/discussion.htm?ident=114&amp;1285767538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403280" y="2276640"/>
            <a:ext cx="70484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Jak správně n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br>
              <a:rPr sz="28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57.00</a:t>
            </a: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očet nových/inovovaných produkt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95280" y="1484280"/>
            <a:ext cx="849780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00000"/>
                </a:solidFill>
                <a:latin typeface="Arial"/>
              </a:rPr>
              <a:t>Nový produkt =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formy a nástroje, kterými je poskytována podpora cílovým skupinám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Např. vzdělávací program, kurz, metodika, osnovy, školní vzdělávací program, e-learningový produkt, webový portál, rekvalifikační modul, integrační postupy, vzdělávací pomůcka ap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Produkt musí být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samostatně použitelný pro poskytování podpory cílovým skupinám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. Soubor několika předmětů či materiálů, které musí být použity společně, tak představuje jediný produk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(Např. pokud je metodika pro lektora nepoužitelná bez osnovy kurzu a příslušné učebnice, nelze za produkt považovat metodiku, nýbrž kurz jako celek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57.00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očet nových/inovovaných produkt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68280" y="1844640"/>
            <a:ext cx="849636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Započítává se počet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různých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 produktů, nikoliv počet kusů, kopií či shodných opakován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Započítávají se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ouze produkty vzniklé v rámci hlavních klíčových aktivit projektu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nikoliv např. propagační předměty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00000"/>
                </a:solidFill>
                <a:latin typeface="Arial"/>
              </a:rPr>
              <a:t>Inovovaný produkt = 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znamená takový produkt, kde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změny v jeho cílech, obsahu, metodách nebo formách významně zvýšily jeho kvalitu a účinnost při poskytování podpory cílovým skupinám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Vytvoření nového/inovovaného produktu nutně znamená, že při tvorbě produktu vzniká nějaké nové duševní vlastnictv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d2d8a"/>
                </a:solidFill>
                <a:latin typeface="Arial"/>
              </a:rPr>
              <a:t>07.46.13 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Počet úspěšných absolventů kurzů celkem/</a:t>
            </a:r>
            <a:br>
              <a:rPr sz="2800"/>
            </a:b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 48.19.00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 Počet proškolených os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95280" y="2066760"/>
            <a:ext cx="849780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Jedná se o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soby, které ukončily kurz/zúčastnily se vzdělávacích aktivit v rámci podpořených projektů a ukončily způsobem stanoveným poskytovatelem kurzu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 (např. získaly certifikát, osvědčení, úspěšně absolvovaly závěrečný test)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Konkrétní účastník (úspěšný absolvent kurzu) je započten tolikrát, kolik kurzů úspěšně dokončil předepsaným způsob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Opět musí být </a:t>
            </a:r>
            <a:r>
              <a:rPr b="0" lang="cs-CZ" sz="2200" spc="-1" strike="noStrike" u="sng">
                <a:solidFill>
                  <a:srgbClr val="14407e"/>
                </a:solidFill>
                <a:uFillTx/>
                <a:latin typeface="Arial"/>
              </a:rPr>
              <a:t>průkazné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, že konkrétní osoba splnila podmínky úspěšného absolvování kurz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07.02.00 (07.02.02)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nově vytvořených pracovních míst 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ro znevýhodněné skupin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– celkem (že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bdélník 1"/>
          <p:cNvSpPr/>
          <p:nvPr/>
        </p:nvSpPr>
        <p:spPr>
          <a:xfrm>
            <a:off x="539640" y="1628640"/>
            <a:ext cx="7993080" cy="43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pro </a:t>
            </a:r>
            <a:r>
              <a:rPr b="1" lang="cs-CZ" sz="2100" spc="-1" strike="noStrike">
                <a:solidFill>
                  <a:srgbClr val="14407e"/>
                </a:solidFill>
                <a:latin typeface="Arial"/>
              </a:rPr>
              <a:t>znevýhodněné skupiny</a:t>
            </a: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... na pracovní místo musí nastoupit </a:t>
            </a:r>
            <a:r>
              <a:rPr b="0" lang="cs-CZ" sz="2100" spc="-1" strike="noStrike" u="sng">
                <a:solidFill>
                  <a:srgbClr val="14407e"/>
                </a:solidFill>
                <a:uFillTx/>
                <a:latin typeface="Arial"/>
              </a:rPr>
              <a:t>osoba ze znevýhodněné skupiny, která je v projektu chápána jako cílová skupin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za místo vytvořené pro</a:t>
            </a:r>
            <a:r>
              <a:rPr b="1" lang="cs-CZ" sz="2100" spc="-1" strike="noStrike">
                <a:solidFill>
                  <a:srgbClr val="14407e"/>
                </a:solidFill>
                <a:latin typeface="Arial"/>
              </a:rPr>
              <a:t> ženy </a:t>
            </a: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se považuje takové pracovní místo, na které </a:t>
            </a:r>
            <a:r>
              <a:rPr b="0" lang="cs-CZ" sz="2100" spc="-1" strike="noStrike" u="sng">
                <a:solidFill>
                  <a:srgbClr val="14407e"/>
                </a:solidFill>
                <a:uFillTx/>
                <a:latin typeface="Arial"/>
              </a:rPr>
              <a:t>jako první zaměstnankyně nastoupila žen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Za vytvořená pracovní místa se nepovažují místa, která vzniknou v rámci realizačního týmu projekt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Nostitelem nově vytvořených pracovních míst může být příjemce podpory, jeho projektový partner nebo jiný zaměstnavatel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07.02.00 (07.02.02)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nově vytvořených pracovních míst 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ro znevýhodněné skupin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– celkem (že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7640" y="1628280"/>
            <a:ext cx="8785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Počet nově vytvořených pracovních míst vykazujete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epočtený na „plné úvazky“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Např. vytvoříte-li tři poloviční úvazky, bude hodnota indikátoru 1,5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Vytvořenými pracovními místy jsou místa vytvořená v rámci projektu v souladu se stanovenými pravid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ové pracovní místo u zaměstnavatele podpořené formou úhrady mzdových nákladů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ové pracovní místo pro sebezaměstnání (OSVČ) podpořené prostřednictvím vzdělávání a podpůrných služe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ové pracovní místo u zaměstnavatele vytvořené v souvislosti s projektem, za předpokladu, že toto místo není financováno z jiných veřejných zdroj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07.02.00 (07.02.02)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nově vytvořených pracovních míst 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ro znevýhodněné skupin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– celkem (že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62864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Počet vytvořených pracovních míst musí představovat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čisté přírůstky pracovních míst v organizaci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 oproti průměru za posledních 12 měsíců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j. </a:t>
            </a:r>
            <a:r>
              <a:rPr b="1" i="1" lang="cs-CZ" sz="2200" spc="-1" strike="noStrike">
                <a:solidFill>
                  <a:srgbClr val="000000"/>
                </a:solidFill>
                <a:latin typeface="Arial"/>
              </a:rPr>
              <a:t>přirozenou fluktuaci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nemohu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ykázat jako vytvořená mís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Požadavek podle předchozí věty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nemusí být splněn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v případě poskytování mzdových příspěvků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znevýhodněným nebo zdravotně postiženým zaměstnancům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 případě, kdy k čistému nárůstu nedojde výhradně kvůli tomu, že dotyčné pracovní místo muselo být uprázdněno z důvodu dobrovolného odchodu, tělesného postižení, odchodu do důchodu z důvodu věku, dobrovolného zkrácení pracovní doby nebo dovoleného propuštění pro porušení pracovních povinnost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43.05.00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čet vytvořených partnerstv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binární indikátor „hloubky“ partnerství ( sleduje vytvořená místní partnerství, tématické sítě, mezinárodní partnerst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dosažená hodnota může být </a:t>
            </a: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uze 0 neb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1 – v rámci projektu byl na základě </a:t>
            </a:r>
            <a:r>
              <a:rPr b="1" lang="cs-CZ" sz="2400" spc="-1" strike="noStrike" u="sng">
                <a:solidFill>
                  <a:srgbClr val="14407e"/>
                </a:solidFill>
                <a:uFillTx/>
                <a:latin typeface="Arial"/>
              </a:rPr>
              <a:t>mezinárodní spolupráce </a:t>
            </a: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vytvořen</a:t>
            </a: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1" lang="cs-CZ" sz="2400" spc="-1" strike="noStrike" u="sng">
                <a:solidFill>
                  <a:srgbClr val="14407e"/>
                </a:solidFill>
                <a:uFillTx/>
                <a:latin typeface="Arial"/>
              </a:rPr>
              <a:t>společný produ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0 – ve všech ostatních případ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Co když nedosáhnu cílové hodno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95280" y="165888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ak hrozí sankce (povinnost vrátit část dotace) ve výši závislé na míře nenaplnění cílové hodno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Konkrétní způsob vyčíslení sankce je v Metodice monitorovacích indikátorů (kapitola 4), obecně plat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- sankce za nenaplnění indikátorů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výstupů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zhledem k údajům uvedeným v Žádosti je udělována, pokud je indikátor naplněn na méně než 85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- sankce za nenaplnění indikátorů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výsledků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zhledem k údajům uvedeným v Žádosti je udělována, pokud je indikátor naplněn na méně než 75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Co když překročím cílovou hodnot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4000" y="1413000"/>
            <a:ext cx="85168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Při překročení plánované hodnoty indikátorů je při výpočtu dosažených hodnot ukazatelů navýšení u jednotlivých indikátorů započítáno 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maximálně ve výši 120%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původně plánované hodno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j. </a:t>
            </a:r>
            <a:r>
              <a:rPr b="1" i="1" lang="cs-CZ" sz="2200" spc="-1" strike="noStrike">
                <a:solidFill>
                  <a:srgbClr val="000000"/>
                </a:solidFill>
                <a:latin typeface="Arial"/>
              </a:rPr>
              <a:t>Několikanásobné překročení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cílových hodnot není výhodou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0920" y="3645000"/>
          <a:ext cx="8569080" cy="22478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22492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říklad z metodiky D8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případě, že projekt předpokládá splnění tří indikátorů výstupů, kdy bude dosažená hodnota prvního </a:t>
                      </a: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 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, druhého </a:t>
                      </a: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% a třetího </a:t>
                      </a: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ůvodního plánu, vypočítá se průměr z těchto hodnot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 %, 10 %, 35 %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ůměr dosažených hodnot indikátorů činí 55 %, čemuž odpovídá sankce ve výši 18 - 22 % z hodnoty dotac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Detailní členění hlavních indikátor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55640" y="1197000"/>
            <a:ext cx="743760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Je-li u daného indikátoru stanoveno jeho detailní členění, </a:t>
            </a:r>
            <a:r>
              <a:rPr b="0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musí příjemce indikátor </a:t>
            </a:r>
            <a:r>
              <a:rPr b="1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sledovat a vykazovat </a:t>
            </a:r>
            <a:r>
              <a:rPr b="0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i v tomto </a:t>
            </a:r>
            <a:r>
              <a:rPr b="1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detailním členění</a:t>
            </a:r>
            <a:r>
              <a:rPr b="1" i="1" lang="cs-CZ" sz="22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(např. podle pohlaví, podle postavení na trhu práce apod.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U těchto indikátorů není stanovená cílová hodnota a nehrozí zde žádná sank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detailní členění je </a:t>
            </a:r>
            <a:r>
              <a:rPr b="0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pouze indikativní</a:t>
            </a: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 a je vykazováno na základě získaných údajů ve své evidenci (presenční listiny atd.) nebo, tam, kde evidence není možná, účelná nebo kde by přinesla neúměrně vysoké náklady, na základě vlastního kvalifikovaného odhadu.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Potřebné pro vyhodnocení účinků OP LZZ, reportování vládě, Evropské komis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95280" y="1125360"/>
            <a:ext cx="8642520" cy="59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ledují sociodemografické údaje o cílové skupi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onitorovací indikátory definovány v metodice D8 - Metodika monitorovacích indiká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Závazné indikátory a jejich cílové hodnoty (které jste si stanovili v žádosti o poskytnutí podpory) jsou součástí Rozhodnutí o poskytnutí dot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plňování závazných indikátorů je sledováno a vykazováno v monitorovacích zprávách projektu a hodnoty těchto závazných indikátorů musí být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prokazatelné a ověřitelné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řípadnou kontrol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Dosažení cílových hodnot je nutnou (avšak </a:t>
            </a:r>
            <a:r>
              <a:rPr b="0" i="1" lang="cs-CZ" sz="2000" spc="-1" strike="noStrike" u="sng">
                <a:solidFill>
                  <a:srgbClr val="14407e"/>
                </a:solidFill>
                <a:uFillTx/>
                <a:latin typeface="Arial"/>
              </a:rPr>
              <a:t>nikoliv postačující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) podmínkou pro dosažení cílů projektu.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Detailní členění hlavních indikátor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95280" y="1658880"/>
            <a:ext cx="82296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ílčí členění se týká indikátor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čet podpořených osob (velmi složité členě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čet podpořených organizací (členění podle typu organiz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čet úspěšných absolventů kurzů (členění podle pohla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čet proškolených osob (členění podle pohla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šechny tyto indikátory jsou včetně definic uvedeny v kapitole 6 Metodiky monitorovacích indikátorů (D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ílčí členění indikátoru </a:t>
            </a: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07.41.00 – Počet podpořených os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1658880"/>
            <a:ext cx="792000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nto indikátor se dále člení po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pohlaví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postavení na trhu práce, (OSVČ, nezaměstnaní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role (klienti služeb = znevýhodněné skupiny, poskytovatelé služeb = ti, kteří se znevýhodněnými pracují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věk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typu znevýhodnění (menšiny, zdravotně postižení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vzdělání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úspěšnosti podpory (úspěšně podpořené osoby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Reportujte vždy o skupinách, které jsou cílovými skupinami Vašeho projekt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ílčí členění indikátoru </a:t>
            </a: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07.41.00 – Počet podpořených os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95280" y="1658880"/>
            <a:ext cx="8229600" cy="49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V rámci podmnožin základních indikátorů mohou nastat situace, kdy 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jednu skutečnost je nutné uvést v podrobném členění do více indikátorů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Např. dlouhodobě nezaměstnaný zdravotně postižený muž z etnické menšiny ve věku 56 let s dokončenou střední školou je zahrnut v indikátorec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00 (podpořená osoba)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01 (muž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07 (nezaměstnaný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06 (dlouhodobě nezaměstnaný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19 (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starší pracovník 55-64 le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42 (střední škola – ISCED 3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25 (menšina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27 (zdravotně postižený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dikátory – další inform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81080" y="1658880"/>
            <a:ext cx="878364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D8 – Metodika monitorovacích indikát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sfcr.cz/file/825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(Cesta: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www.esfcr.cz → „Dokumenty“→ „Příručky“→ „Desatero OP LZZ“→ „D8 Metodika monitorovacích indikátorů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ESF Forum – Diskusní klub „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Monitorování a informační systémy; indikátory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forum.esfcr.cz/node/discussion.htm?ident=114&amp;1285767538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U oblasti podpory 3.4 jde 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39640" y="1773360"/>
          <a:ext cx="8229600" cy="3809880"/>
        </p:xfrm>
        <a:graphic>
          <a:graphicData uri="http://schemas.openxmlformats.org/drawingml/2006/table">
            <a:tbl>
              <a:tblPr/>
              <a:tblGrid>
                <a:gridCol w="1440000"/>
                <a:gridCol w="2016000"/>
                <a:gridCol w="4773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ód národního číselník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1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sob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5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rganizací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57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ých/inovovaných produktů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ledk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6.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úspěšných absolventů kurzů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0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nově zařaze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85680" indent="-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ě vytvořených pracovních  míst pro znevýhodněné skupiny - celk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02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nově zařaze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ě vytvořených pracovních míst pro znevýhodněné skupiny - že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U oblasti podpory 5.1 jde 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600200"/>
          <a:ext cx="8229600" cy="2685960"/>
        </p:xfrm>
        <a:graphic>
          <a:graphicData uri="http://schemas.openxmlformats.org/drawingml/2006/table">
            <a:tbl>
              <a:tblPr/>
              <a:tblGrid>
                <a:gridCol w="1440000"/>
                <a:gridCol w="2016000"/>
                <a:gridCol w="47736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ód národního číselník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1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sob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5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rganizací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57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ých/inovovaných produktů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0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vytvořených partners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ledk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19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roškolených oso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41.00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95280" y="1658880"/>
            <a:ext cx="82296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Každá osoba je v </a:t>
            </a: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rámci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projektu započítávána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pouze jednou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, bez ohledu na to, kolik podpor obdrže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Účastník tří školení a půlroční stáže tedy vydá pouze za jednu podpořenou osobu, stejně jako osoba, která jednou využila konzultačních služe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dpora je jakákoliv aktivita financovaná z rozpočtu projektu, ze které mají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cílové skupiny prospěch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a to na úrovni např. vzdělávacího nebo rekvalifikačního kurzu, stáže, odborné konzultace, poradenství, školení, prax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41.00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95280" y="177336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Nutnost identifikace podpořených oso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Za podpořenou osobu proto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 nelze považovat anonymní osobu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s neprokazatelným prospěchem,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tj. osobu, která dostala např. leták, bulletin nebo hromadný ema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(Co když ho jeden a ten samý člověk dostal třikrát? Co když ho příjemce vůbec nepřečetl? Jak charakterizujete člověka jen podle emailové adresy v povinném dílčím členění indikátoru?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41.00</a:t>
            </a: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79280" y="1628640"/>
            <a:ext cx="87138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Nástroje pro prokazování počtu podpořených osob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prezenční listiny 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(u kurzů, seminářů a skupinových aktivi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karty klienta či adresář klientů 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(např. u osobních poradenských aktivi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adresář klientů a archivovaná elektronická korespondence nebo výpis telefonních hovorů 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(u konzultací po e-mailu nebo telefonu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Formu si volí projekt dle své úvahy tak, aby dostál povinnosti mít 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prokazatelný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počet podpořených oso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Doporučení: Mějte na prezenčních listinách u podpořených osob kromě jména a příjmení také kontakt a datum narozen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Lze mezi podpořené osoby počítat osoby projektového tým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Členové projektového týmu nejsou podpořené osob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Zařazeni by zde mohli být pouze v případě, kdy by oni sami byli kromě projektového týmu zároveň také cílovou skupin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Např. může nastat situace, kdy jedna osoba, např. terénní pracovník, je zároveň členem týmu (pracuje s klienty z cílových skupin) a zároveň je cílovou skupinou (protože projekt mimo jiné organizuje vzdělávací kurz pro terénní pracovníky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45.00</a:t>
            </a: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očet podpořených organizací - celk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o tohoto hodnoty tohoto indikátoru se zahrnuje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 organizace příjemce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+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 organizace českých partnerů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uvedených v Rozhodnutí o poskytnutí do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Hodnota musí být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větší nebo rovna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ř.: Pokud má žadatel dva české partnery bude hodnota tohoto ukazatele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Eliška</cp:lastModifiedBy>
  <cp:lastPrinted>2012-11-27T07:57:09Z</cp:lastPrinted>
  <dcterms:modified xsi:type="dcterms:W3CDTF">2012-12-07T10:48:37Z</dcterms:modified>
  <cp:revision>43</cp:revision>
  <dc:subject/>
  <dc:title>Snímek 1</dc:title>
</cp:coreProperties>
</file>